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488-1E61-4BA8-ADF2-BD48561B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AD6-09B1-4738-843E-FF492F0F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2A2-F685-4951-8933-E8B8F553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5C4-F871-4AD3-83F4-A2D237CE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81F-9224-4246-95F1-E551DCF3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A63-F7D4-4DB0-8DB6-7ECA5AC5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DB2-7ED6-46D2-A65B-52EAD14A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366-08FD-480C-91C0-DA8740A7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C35-55C8-402E-9B0F-AED0F1B9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256-8518-421E-A12D-7305F2BF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B8F-1CEA-4E0F-8A93-76CFB5BA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4AD-0E0F-41D7-AD61-604C2A0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AA4C-D79D-48E9-98A6-DF1AF1949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006920" y="14760"/>
            <a:ext cx="72064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Monotype Corsiva"/>
              </a:rPr>
              <a:t>4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О, съботно училище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Божие светилище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показваш ми към Бога друм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радваш сърце и у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118160" y="-12240"/>
            <a:ext cx="834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теб уча аз, че зарад н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ърпял Спасителят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 кръста смърт, от грешни срам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а дал спасение н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824040" y="-12240"/>
            <a:ext cx="6550920" cy="2288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Благодарим Ти, Отче наш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й-верен Си наш Страж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и и до днес с любов сега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ържиш ни при Хри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16800" y="4524840"/>
            <a:ext cx="7014240" cy="2288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О, съботно училище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Божие светилище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душата ми ти радост влей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в пътя ми все гре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27:03Z</dcterms:created>
  <dc:creator>TrifonTrifonow</dc:creator>
  <dc:description/>
  <dc:language>en-US</dc:language>
  <cp:lastModifiedBy>TrifonTrifonow</cp:lastModifiedBy>
  <dcterms:modified xsi:type="dcterms:W3CDTF">2005-11-23T17:43:39Z</dcterms:modified>
  <cp:revision>5</cp:revision>
  <dc:subject/>
  <dc:title>Slide 1</dc:title>
</cp:coreProperties>
</file>